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3B8-D0EC-42D2-A173-D479D009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E27-2EFB-411C-9388-1A4DFE35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1F0-4705-4546-8549-A12B7DD3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66-7AB8-4219-9420-76BACB4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EFD-8405-4808-B89F-3B7F93A4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D035-7732-457F-B859-A1BB64F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737-39FD-4304-986D-2C9E17FE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7FB-2D5A-4091-A317-10F5AAAA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67C-E9B2-489F-9CF8-34E034E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DFF-973C-4026-8700-5A7B5770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562-2484-4A32-B0D5-2112D1A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DC5-A846-43F5-BAA5-E58DE1D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9078-A34B-44A3-BC8E-1086689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8593-5456-4C1D-B159-AC0EC07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F4B-DD2C-4928-87C6-93DB95E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CFD-690D-4571-BBD1-C3538197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D43A-6403-4569-BC66-BD90CDF5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415F-794B-40E5-8ED1-07959098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1D18-8410-4859-BB38-26936D3A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7EBE-0ACD-49EE-8916-5FCB13C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4E96-F12B-4983-87B7-162FCD2E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2FAE-6E5F-4581-9DD1-141E60DC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960-AC5C-4877-874C-5312ECC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3912-75F3-4F3B-89B3-F1E62A0E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EDF7-03D2-4F45-96EE-1C95498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1FD4-CACA-4637-9895-0C44E8C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F197-8D78-477C-9F73-E0E5F32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0AC9-DD65-4E33-ADF9-55244FA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C8D8-3DCF-489E-868F-AE6329FB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7DB6-8974-4FF2-B7ED-5786EF6E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04F6-8BAB-48B2-9F9A-C1D98773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5F38-69F7-499C-AAF6-8898B2F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0A34-3989-4742-AC51-88B7D358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9D9-9DF6-4117-A21F-E1F970AF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F6E1-481D-424D-9914-DD5B860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58A9-A5D2-400F-B06D-1DC816EF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C73A-68FC-4EE1-BCB5-84EC7858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8AAF-2584-49EA-B143-D84FFC6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C717-7D73-4E49-8C19-EA8EA23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8AA2-5951-4DE6-8345-9C6B21C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0CAE-A5B2-448C-BE74-EBBAD32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43A26-2FE7-462E-B01B-7E2828BD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B38B-7735-4122-ACE7-56652074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9EB-7B86-4283-B91E-722FCD8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45B-28C3-468E-99A6-6EA72FD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A51-4CB1-439F-99F5-6DD358B9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96B-C2B4-4032-AF56-CF0FBD7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0FD-FF61-4AD9-86F8-F9E35C7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FC2CD-A764-4006-B5C4-1127F2A1596E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CF66A-3A5A-44C0-A858-9042884FF726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6D408-7210-4B90-BD6A-C937D7384086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BE1AF-BD1F-4021-9561-33040D71D207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КАВИТЕТА I</a:t>
            </a:r>
            <a:r>
              <a:rPr b="1" lang="sr-Latn-RS" sz="4000" spc="-1" strike="noStrike">
                <a:solidFill>
                  <a:srgbClr val="1e5155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 КЛАСЕ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IV КЛАСЕ.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ВАРИЈАНТЕ КАВИТЕТА IV КЛАСЕ: СА ГИНГИВАСЛНИМ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СТЕПЕНИКОМ, СА ИНЦИЗАЛНИМ СТРЕПЕНИК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84200" y="1467000"/>
            <a:ext cx="658656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акромеханичк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стин ре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и жљебов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е тач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пулп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ал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Content Placeholder 3"/>
          <p:cNvSpPr/>
          <p:nvPr/>
        </p:nvSpPr>
        <p:spPr>
          <a:xfrm>
            <a:off x="484200" y="4819680"/>
            <a:ext cx="53020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икромеханич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7% фосфорна кис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ли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2" descr="http://pocketdentistry.com/wp-content/uploads/285/img0357.jpg"/>
          <p:cNvPicPr/>
          <p:nvPr/>
        </p:nvPicPr>
        <p:blipFill>
          <a:blip r:embed="rId1"/>
          <a:stretch/>
        </p:blipFill>
        <p:spPr>
          <a:xfrm>
            <a:off x="6781680" y="1467000"/>
            <a:ext cx="1935360" cy="223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akiselinom"/>
          <p:cNvPicPr/>
          <p:nvPr/>
        </p:nvPicPr>
        <p:blipFill>
          <a:blip r:embed="rId2"/>
          <a:stretch/>
        </p:blipFill>
        <p:spPr>
          <a:xfrm>
            <a:off x="4741920" y="3922560"/>
            <a:ext cx="426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ЛАСТИН РЕП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84200" y="1467000"/>
            <a:ext cx="6094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стин реп треба да се налази 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едњој тећини инцизо- гингивног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омера крунице зуб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јер не угрожава инцизалну ивицуу нити пулп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зио-дисталном правцу код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већих зуба до медијалне линиј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а код мањих прелзи м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лну линиј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дупире се мазио-дисталним и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стибуло-оралним силам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идови с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улпни, инцизални, гингивални, апроксимални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иолошки облик кавитет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6754680" y="1165320"/>
            <a:ext cx="2279880" cy="30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578640" y="4262400"/>
            <a:ext cx="2367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4930920" y="1467000"/>
            <a:ext cx="2609640" cy="29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sD11 copy"/>
          <p:cNvPicPr/>
          <p:nvPr/>
        </p:nvPicPr>
        <p:blipFill>
          <a:blip r:embed="rId2"/>
          <a:stretch/>
        </p:blipFill>
        <p:spPr>
          <a:xfrm>
            <a:off x="3268800" y="444816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1717560" y="1467000"/>
            <a:ext cx="2579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D5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8" name="Picture 4" descr="4Kl02"/>
          <p:cNvPicPr/>
          <p:nvPr/>
        </p:nvPicPr>
        <p:blipFill>
          <a:blip r:embed="rId1"/>
          <a:stretch/>
        </p:blipFill>
        <p:spPr>
          <a:xfrm>
            <a:off x="5610240" y="1725480"/>
            <a:ext cx="28656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731880" y="1779480"/>
            <a:ext cx="4014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1" name="Picture 2" descr="Rezultat slika za incisor fracture frc post"/>
          <p:cNvPicPr/>
          <p:nvPr/>
        </p:nvPicPr>
        <p:blipFill>
          <a:blip r:embed="rId1"/>
          <a:stretch/>
        </p:blipFill>
        <p:spPr>
          <a:xfrm>
            <a:off x="2584440" y="1305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8680" y="4127400"/>
            <a:ext cx="8890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4" name="Picture 2" descr="http://www.styleitaliano.org/uploaded_images/articles/11203/b65b4af0.jpg"/>
          <p:cNvPicPr/>
          <p:nvPr/>
        </p:nvPicPr>
        <p:blipFill>
          <a:blip r:embed="rId1"/>
          <a:stretch/>
        </p:blipFill>
        <p:spPr>
          <a:xfrm>
            <a:off x="231840" y="1419120"/>
            <a:ext cx="2948040" cy="1965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www.styleitaliano.org/uploaded_images/articles/11203/f257dbf4.jpg"/>
          <p:cNvPicPr/>
          <p:nvPr/>
        </p:nvPicPr>
        <p:blipFill>
          <a:blip r:embed="rId2"/>
          <a:stretch/>
        </p:blipFill>
        <p:spPr>
          <a:xfrm>
            <a:off x="3322800" y="1419120"/>
            <a:ext cx="2887560" cy="197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http://www.styleitaliano.org/uploaded_images/articles/11203/baa7c43f.jpg"/>
          <p:cNvPicPr/>
          <p:nvPr/>
        </p:nvPicPr>
        <p:blipFill>
          <a:blip r:embed="rId3"/>
          <a:stretch/>
        </p:blipFill>
        <p:spPr>
          <a:xfrm>
            <a:off x="6332400" y="1419120"/>
            <a:ext cx="2660760" cy="1965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http://www.styleitaliano.org/uploaded_images/articles/11203/adfe31db.jpg"/>
          <p:cNvPicPr/>
          <p:nvPr/>
        </p:nvPicPr>
        <p:blipFill>
          <a:blip r:embed="rId4"/>
          <a:stretch/>
        </p:blipFill>
        <p:spPr>
          <a:xfrm>
            <a:off x="231840" y="3603600"/>
            <a:ext cx="29480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http://www.styleitaliano.org/uploaded_images/articles/11203/ea3da0d9.jpg"/>
          <p:cNvPicPr/>
          <p:nvPr/>
        </p:nvPicPr>
        <p:blipFill>
          <a:blip r:embed="rId5"/>
          <a:stretch/>
        </p:blipFill>
        <p:spPr>
          <a:xfrm>
            <a:off x="3322800" y="3603600"/>
            <a:ext cx="2873160" cy="197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http://www.styleitaliano.org/uploaded_images/articles/11203/b82667a0.jpg"/>
          <p:cNvPicPr/>
          <p:nvPr/>
        </p:nvPicPr>
        <p:blipFill>
          <a:blip r:embed="rId6"/>
          <a:stretch/>
        </p:blipFill>
        <p:spPr>
          <a:xfrm>
            <a:off x="6332400" y="3603600"/>
            <a:ext cx="2621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91" name="Picture 2" descr="http://www.styleitaliano.org/uploaded_images/articles/11203/dffc34f8.jpg"/>
          <p:cNvPicPr/>
          <p:nvPr/>
        </p:nvPicPr>
        <p:blipFill>
          <a:blip r:embed="rId1"/>
          <a:stretch/>
        </p:blipFill>
        <p:spPr>
          <a:xfrm>
            <a:off x="231840" y="1438200"/>
            <a:ext cx="2935080" cy="197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www.styleitaliano.org/uploaded_images/articles/11203/c48673ce.jpg"/>
          <p:cNvPicPr/>
          <p:nvPr/>
        </p:nvPicPr>
        <p:blipFill>
          <a:blip r:embed="rId2"/>
          <a:stretch/>
        </p:blipFill>
        <p:spPr>
          <a:xfrm>
            <a:off x="3300480" y="1438200"/>
            <a:ext cx="2859120" cy="1974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http://www.styleitaliano.org/uploaded_images/articles/11203/e7330b8e.jpg"/>
          <p:cNvPicPr/>
          <p:nvPr/>
        </p:nvPicPr>
        <p:blipFill>
          <a:blip r:embed="rId3"/>
          <a:stretch/>
        </p:blipFill>
        <p:spPr>
          <a:xfrm>
            <a:off x="6265800" y="1452600"/>
            <a:ext cx="2687760" cy="19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ttp://www.styleitaliano.org/uploaded_images/articles/11203/e051cce6.jpg"/>
          <p:cNvPicPr/>
          <p:nvPr/>
        </p:nvPicPr>
        <p:blipFill>
          <a:blip r:embed="rId4"/>
          <a:stretch/>
        </p:blipFill>
        <p:spPr>
          <a:xfrm>
            <a:off x="231840" y="3562200"/>
            <a:ext cx="3610080" cy="2406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www.styleitaliano.org/uploaded_images/articles/11203/a6d9bbfa.jpg"/>
          <p:cNvPicPr/>
          <p:nvPr/>
        </p:nvPicPr>
        <p:blipFill>
          <a:blip r:embed="rId5"/>
          <a:stretch/>
        </p:blipFill>
        <p:spPr>
          <a:xfrm>
            <a:off x="4081320" y="3562200"/>
            <a:ext cx="487224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ЛОКАЛИЗ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КАВИТЕТА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проксималне површине предњих зуба с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ећењем инцизалног уг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настати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о последица каријесног процеса или механичког оштеће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DelovanjeSila01"/>
          <p:cNvPicPr/>
          <p:nvPr/>
        </p:nvPicPr>
        <p:blipFill>
          <a:blip r:embed="rId1"/>
          <a:stretch/>
        </p:blipFill>
        <p:spPr>
          <a:xfrm>
            <a:off x="4913280" y="4229280"/>
            <a:ext cx="4032360" cy="2381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Rezultat slika za tooth clas iv cavity"/>
          <p:cNvPicPr/>
          <p:nvPr/>
        </p:nvPicPr>
        <p:blipFill>
          <a:blip r:embed="rId2"/>
          <a:stretch/>
        </p:blipFill>
        <p:spPr>
          <a:xfrm>
            <a:off x="322200" y="4440240"/>
            <a:ext cx="4486320" cy="21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ocketdentistry.com/wp-content/uploads/285/img0367.jpg"/>
          <p:cNvPicPr/>
          <p:nvPr/>
        </p:nvPicPr>
        <p:blipFill>
          <a:blip r:embed="rId3"/>
          <a:stretch/>
        </p:blipFill>
        <p:spPr>
          <a:xfrm>
            <a:off x="4913280" y="1762200"/>
            <a:ext cx="401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ЛОКАЛИЗ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зијални инцизални уга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кутића чешће подлеже оштећењу него дист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 анатомо-морфолошког облика секутића, јер мезијални инцизални угао има каракт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рог угл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дистални је заобљен и заклапа туп уг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cetvrtaKlasa02"/>
          <p:cNvPicPr/>
          <p:nvPr/>
        </p:nvPicPr>
        <p:blipFill>
          <a:blip r:embed="rId1"/>
          <a:stretch/>
        </p:blipFill>
        <p:spPr>
          <a:xfrm>
            <a:off x="5508720" y="1700280"/>
            <a:ext cx="3267000" cy="230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cetvrtaKlasaNovi"/>
          <p:cNvPicPr/>
          <p:nvPr/>
        </p:nvPicPr>
        <p:blipFill>
          <a:blip r:embed="rId2"/>
          <a:stretch/>
        </p:blipFill>
        <p:spPr>
          <a:xfrm>
            <a:off x="5508720" y="4240080"/>
            <a:ext cx="3267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1840" y="1466640"/>
            <a:ext cx="6140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чине оште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г промера з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изине пул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грижаја пациј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Rezultat slika za incisal filling retention"/>
          <p:cNvPicPr/>
          <p:nvPr/>
        </p:nvPicPr>
        <p:blipFill>
          <a:blip r:embed="rId1"/>
          <a:stretch/>
        </p:blipFill>
        <p:spPr>
          <a:xfrm>
            <a:off x="5884920" y="1246320"/>
            <a:ext cx="2584440" cy="26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5"/>
          <p:cNvPicPr/>
          <p:nvPr/>
        </p:nvPicPr>
        <p:blipFill>
          <a:blip r:embed="rId2"/>
          <a:stretch/>
        </p:blipFill>
        <p:spPr>
          <a:xfrm>
            <a:off x="4454640" y="4124160"/>
            <a:ext cx="4014720" cy="25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Rezultat slika za incisal bite"/>
          <p:cNvPicPr/>
          <p:nvPr/>
        </p:nvPicPr>
        <p:blipFill>
          <a:blip r:embed="rId3"/>
          <a:stretch/>
        </p:blipFill>
        <p:spPr>
          <a:xfrm>
            <a:off x="210960" y="4262400"/>
            <a:ext cx="4029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1840" y="1466640"/>
            <a:ext cx="56689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е т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ћине предњих зуба у току жвакања изложене су дејству сила које су неповољне за стабилност испуна и теже да га истисну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м и апроксималном сме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Before"/>
          <p:cNvPicPr/>
          <p:nvPr/>
        </p:nvPicPr>
        <p:blipFill>
          <a:blip r:embed="rId1"/>
          <a:stretch/>
        </p:blipFill>
        <p:spPr>
          <a:xfrm>
            <a:off x="576360" y="4316400"/>
            <a:ext cx="3525840" cy="211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image"/>
          <p:cNvPicPr/>
          <p:nvPr/>
        </p:nvPicPr>
        <p:blipFill>
          <a:blip r:embed="rId2"/>
          <a:stretch/>
        </p:blipFill>
        <p:spPr>
          <a:xfrm>
            <a:off x="6454800" y="2936880"/>
            <a:ext cx="230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2200" y="1466640"/>
            <a:ext cx="50911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а ивица доњих секутића при жвакању врши притисак на палатиналну површину горњих секут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је правац продужетак уздужне осовине доњих секутића разлаже се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a је усмерена аксијално у односу на горње секутиће и 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егативну сил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правну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у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ја делује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Ако испун нема ретенцију помера га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770440" y="1649520"/>
            <a:ext cx="316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сечењу хране доњи секутићи инцизалном ивицом притискају инцизалну ивицу горњих секут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ја оптерећује инцизални руб испуна разлаже се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гативну сил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притиска преноси се на базу А1-В1 гингивног зида негативне силе теже да изврну испун око тачке А1 која нема базу у гингивном зиду делују као полуга изазивајући одвајање исп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2446200" y="3936960"/>
            <a:ext cx="4168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ОБЛИК КАВИТЕТ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клузије и арти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ца и интензитета деловања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лумена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а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строшености зуба -абр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D14 copy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7-08-25T16:42:30Z</dcterms:modified>
  <cp:revision>510</cp:revision>
  <dc:subject/>
  <dc:title>Каријес зуба</dc:title>
</cp:coreProperties>
</file>